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3261-6D92-44E0-9D34-A4F18BCE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46C5-084A-4514-AFE0-7FB7D7BC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88FA-5F85-4233-9A04-24B51A60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0E98-F1FE-46C6-BE73-79FEB861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3364-9ACD-4C1F-8A92-3B00BF15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2703-EB7D-47F4-BB83-48E268CE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5542-2507-4C01-9FE8-3E553B59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FA70-A2B7-489B-A7B2-5A5206DB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D6FB-E8B3-4D15-94AE-D7C40C3B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B984-ED4E-4A63-93D5-30506E1C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211E-22B8-41C6-A61A-B9C6D3DE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1AE4-4C8B-4884-B403-0CB06225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980A-22F2-4015-BB70-C9A591D3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62BD-E6DF-4FDA-B3F4-FD499B41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62C6-E078-449B-8E2C-9E7197B4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35F4-0FCA-4973-8CEC-005D3F4A4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5AFE-EE34-40A1-A65B-40A347FC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42A9-7A10-47E9-B736-521C862B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E8FB-84A7-4036-939E-A7738E82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050C-C684-4B15-B6D9-06721BA9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9260-789D-4363-8268-D48431DD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50B6-F4AB-47B5-9C24-23690A05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65C6-E83F-42D5-9C89-C04B9BF5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18AD-3E8B-44CB-89B1-71A3CF10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CFB6-6765-41AC-A9EA-1C06D1CC12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BE7A-A292-4AC7-A36F-EB23AFDECF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google.com/imgres?imgurl=http://library.thinkquest.org/5135/foxWinterRed.jpg&amp;imgrefurl=http://library.thinkquest.org/5135/foxes.htm&amp;usg=__kcyQ5qBdpDTI_pKLmuyowRKJ7i0=&amp;h=350&amp;w=350&amp;sz=28&amp;hl=en&amp;start=1&amp;itbs=1&amp;tbnid=uPJAzd3swDnk6M:&amp;tbnh=120&amp;tbnw=120&amp;prev=/images%3Fq%3Dfoxes%26hl%3Den%26safe%3Dactive%26gbv%3D2%26tbs%3Disch:1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google.com/imgres?imgurl=http://img.dailymail.co.uk/i/pix/2007/07_02/cub1807_468x681.jpg&amp;imgrefurl=http://www.dailymail.co.uk/news/article-469379/Extraordinary-pictures-Pride-joy-Lion-King.html&amp;usg=__EORYWBHyeRTnuoKjmFjb8gHYIHk=&amp;h=681&amp;w=468&amp;sz=106&amp;hl=en&amp;start=68&amp;itbs=1&amp;tbnid=WrGb4dbBNN8iTM:&amp;tbnh=139&amp;tbnw=96&amp;prev=/images%3Fq%3Dlion%26start%3D60%26hl%3Den%26safe%3Dactive%26sa%3DN%26gbv%3D2%26ndsp%3D20%26tbs%3Disch:1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google.com/imgres?imgurl=http://www.fondosdeescritorio10.com/wp-content/uploads/2008/11/foca-arpa-beb-eacute.jpg&amp;imgrefurl=http://www.fondosdeescritorio10.com/wp-content/uploads/2008/11/&amp;usg=__bmw0Ta9yHaixMR0x1PzqEHZcDQk=&amp;h=1200&amp;w=1600&amp;sz=366&amp;hl=en&amp;start=8&amp;itbs=1&amp;tbnid=ml-p0t7wMHvcBM:&amp;tbnh=113&amp;tbnw=150&amp;prev=/images%3Fq%3Dfoca%26hl%3Den%26safe%3Dactive%26gbv%3D2%26tbs%3Disch:1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www.google.com/imgres?imgurl=http://files.myopera.com/occhidigatto/albums/194275/gato.jpg&amp;imgrefurl=http://my.opera.com/occhidigatto/albums/showpic.dml%3Falbum%3D194275%26picture%3D2945504&amp;usg=__mrv299G3qBzHC9CUv5JwcCbKIOk=&amp;h=500&amp;w=403&amp;sz=24&amp;hl=en&amp;start=3&amp;itbs=1&amp;tbnid=cHI1wpFRbhm7-M:&amp;tbnh=130&amp;tbnw=105&amp;prev=/images%3Fq%3Dgato%26hl%3Den%26safe%3Dactive%26gbv%3D2%26tbs%3Disch:1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www.google.com/imgres?imgurl=http://www.vivirconmascotas.com/files/perro_3.jpg&amp;imgrefurl=http://zelene.ohlog.com/p-e-r-r-o.oh87860.html&amp;usg=__SuE9uJ8_60DT7-334xPYKdkQL_Y=&amp;h=450&amp;w=600&amp;sz=26&amp;hl=en&amp;start=9&amp;itbs=1&amp;tbnid=7ITRDHM89824eM:&amp;tbnh=101&amp;tbnw=135&amp;prev=/images%3Fq%3Dperro%26hl%3Den%26safe%3Dactive%26gbv%3D2%26tbs%3Disch:1" TargetMode="External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hyperlink" Target="http://www.google.com/imgres?imgurl=http://mlbfleecefactor.files.wordpress.com/2007/11/winter-wallpaper.jpg&amp;imgrefurl=http://mlbfleecefactor.wordpress.com/2007/11/29/winter-meetings-rapidly-approaching/&amp;usg=__V0afj2O83qYswWgTvoMYpqreOdU=&amp;h=768&amp;w=1024&amp;sz=222&amp;hl=en&amp;start=19&amp;itbs=1&amp;tbnid=JHW1bIWqBwESsM:&amp;tbnh=113&amp;tbnw=150&amp;prev=/images%3Fq%3Dwinter%26hl%3Den%26safe%3Dactive%26gbv%3D2%26tbs%3Disch:1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decideforyourself.files.wordpress.com/2008/10/spring2.jpg" TargetMode="External"/><Relationship Id="rId9" Type="http://schemas.openxmlformats.org/officeDocument/2006/relationships/image" Target="../media/image10.jpeg"/><Relationship Id="rId10" Type="http://schemas.openxmlformats.org/officeDocument/2006/relationships/hyperlink" Target="http://www.google.com/imgres?imgurl=http://www.prontohotel.com/blog/wp-content/uploads/2009/06/holidays-summer.jpg&amp;imgrefurl=http://www.prontohotel.com/blog/travel-news/the-best-deal-for-your-summer-holidays.html&amp;usg=__UDbb86n7L8BQ7YgKr6SVHuluvX8=&amp;h=338&amp;w=450&amp;sz=70&amp;hl=en&amp;start=33&amp;itbs=1&amp;tbnid=WGdYz0DKV6IWwM:&amp;tbnh=95&amp;tbnw=127&amp;prev=/images%3Fq%3Dsummer%26start%3D20%26hl%3Den%26safe%3Dactive%26sa%3DN%26gbv%3D2%26ndsp%3D20%26tbs%3Disch:1" TargetMode="External"/><Relationship Id="rId11" Type="http://schemas.openxmlformats.org/officeDocument/2006/relationships/image" Target="../media/image11.jpeg"/><Relationship Id="rId12" Type="http://schemas.openxmlformats.org/officeDocument/2006/relationships/hyperlink" Target="http://www.google.com/imgres?imgurl=http://americanhistory.si.edu/paint/images/large_images/IndianSummer.jpg&amp;imgrefurl=http://americanhistory.si.edu/paint/images/large_images/image_html/indiansummer.html&amp;usg=__jzcZ5CJ6suN9iH--s_Lv175pppU=&amp;h=300&amp;w=400&amp;sz=117&amp;hl=en&amp;start=9&amp;itbs=1&amp;tbnid=O5fCoLeKWngVxM:&amp;tbnh=93&amp;tbnw=124&amp;prev=/images%3Fq%3Dsummer%26hl%3Den%26safe%3Dactive%26gbv%3D2%26tbs%3Disch:1" TargetMode="External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a clase de Espano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ris y Dayjan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Los animale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pha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or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772400" y="2057400"/>
            <a:ext cx="1076400" cy="1619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1905120"/>
            <a:ext cx="1447920" cy="1676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772400" y="3962520"/>
            <a:ext cx="1066680" cy="1476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62720" y="3962520"/>
            <a:ext cx="1600200" cy="1380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38480" y="3962520"/>
            <a:ext cx="1152720" cy="1314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581280" y="1981080"/>
            <a:ext cx="17431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a Estac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038480" cy="1981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648320" y="1981080"/>
            <a:ext cx="4038480" cy="1981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57200" y="411444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648320" y="411444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" y="1981080"/>
            <a:ext cx="4038480" cy="2057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See full 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648320" y="1981080"/>
            <a:ext cx="4038480" cy="1981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57200" y="411480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648320" y="4114800"/>
            <a:ext cx="4038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a famil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p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ue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ue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rma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5:30:40Z</dcterms:created>
  <dc:creator>WSFCS Workstation</dc:creator>
  <dc:description/>
  <dc:language>en-US</dc:language>
  <cp:lastModifiedBy>WSFCS Workstation</cp:lastModifiedBy>
  <dcterms:modified xsi:type="dcterms:W3CDTF">2010-04-26T15:59:15Z</dcterms:modified>
  <cp:revision>3</cp:revision>
  <dc:subject/>
  <dc:title>La clase de Espanol</dc:title>
</cp:coreProperties>
</file>